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86CB-1228-4F86-8449-4D854D413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5577-CAFE-4F38-AD90-0FBAAF50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79855-3E57-4D73-BFF1-9171C9D5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33335-F734-4B44-87E6-18CC37C1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E08CD-BAC2-4A3D-A07A-05C91D37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CE40A-9791-4EAA-868B-78B6E601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64605-EA1D-49C4-B4FF-9D353CDA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C2418-B2EF-494B-A063-83BFC2A9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4F4BC-84F5-4C9C-A35E-4795B1E6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78823-5089-4705-B61E-E5C209D9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D71D4-C512-47BD-85ED-7A469CA6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318F5-84F4-44C2-8485-35A10E12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8010-795E-4E47-8FDD-97E045FB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E5CD7-3BE2-4556-A204-200E07CB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B2B25-155D-4768-9799-B07871F7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D68B7-7BE2-4779-B80F-F31C9332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2AA71-F6C6-4A7C-AF97-CCF18A76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0A09C-2755-4A92-A158-B6D259FF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2FF70-72DE-416A-B332-7811B3E0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98010E-A6F2-45EC-98E4-EBA0D0D5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8F061-3774-4991-ACC9-12D27ACF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BEB3B-A554-49F5-A25E-45D0A961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246E1-384A-4912-B9B1-CC74333E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0B35-5BDF-487E-9BA1-8E5403D7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54F5F-DF80-4608-8019-5D78E19B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46CBF-2FD7-4179-A81C-AE0EFD8F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C3F49-714C-446D-89DF-AD35B64F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A15D3-C9DC-4A3F-B45C-860246E3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0E566-52EC-45AF-A66C-1DD83AA3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DE1D8-39E4-4AC3-B72C-ED9EACB0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84AD3-F5B6-440D-8178-5510A1A9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CB0B1-8CCB-47F5-8746-157196B9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4B728-5F1C-46D7-A080-385E8D67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69879-4246-467C-B93C-E709BB37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B4F0-21CC-4EF3-A8FB-C81E7F73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5497C-7665-4585-91FE-B204B64F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1BB92-C224-4E96-9498-B91100D5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1A3EE-74FE-41E1-B18A-508C94C4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E7BFA-58B2-43BD-AC76-56C46D47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71075-ED18-4042-90D6-253939DF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148D1-600C-4D7B-830E-C445B8FA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43415-5634-46AA-9880-C63E61BE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2FA00-DC1A-40A1-8749-9BC69F14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08CAE-7D60-4CB0-97CE-3D651F7E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8DB7E-BC8C-45D2-802E-38B827CF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9C91-0179-43B6-B925-EB0972E7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78D63-8776-43AE-8379-3183343F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C147B-C0AC-4473-A849-49CF160D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BE8C1-5F6C-47A7-9B94-05A8EC2E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0C772-5D4C-4858-88FD-D84BA0E4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60FC2-BADA-4F35-BB9D-D7EA38CE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9F5A-C457-4476-9230-7EC5D1FC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618E-5728-41DA-A7A8-1DC2848E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C644-B59B-41EF-A6E9-23218D1C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F0C4-B6AB-495F-A5F3-5C0DA768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AFC9-2268-4DE3-929E-0D4BDDBB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8BE8-7EC5-4E74-AD5B-7C04CD38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5922-5D93-4B4D-9DFF-5F72204A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3FF5-3F32-4118-B47B-E48603D4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25B7-0EC1-4D3A-A65A-1C5A65BF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3BDA-13F0-4FFB-9A85-541AA9D0E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E181-6D7D-4320-8415-E20FF86D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A3663-9F02-42A8-9FB6-1F4ABAA0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5D20A-D517-410E-89AD-274F05E4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D53D7-6455-4B12-B74B-F086F6FB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CE076-DFAE-44F3-8B9B-2F138FCA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78BED-B383-44BD-A6B5-E3A143F7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2B2E-A095-4D3F-8402-18FD45E6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BB0D1-EBB1-44AF-B8AE-5F718DBE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A6147-55A7-4A55-962F-C3D890D7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37EDB-8C6A-4907-9E88-8461E2EB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CB8F6-4273-4D56-9502-589E6D06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222C0-8439-4AD2-9B79-D778E4F6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DC1A9-6E0D-4772-9DA2-E9E9F4BB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C405E-002E-46A8-88AB-BED32EE6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A8D6F-9F31-4D97-AB31-DC5E0493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89CFB-FE23-4165-86A0-D4D44D5B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0651C-BB5F-4179-B679-1C749B60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657A-B8C0-4C86-BE21-3B43F0E6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55846-FB8E-423F-A7B4-0A85922F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792FF-F024-4B40-8E86-CA4FCD57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E081C-2867-4108-BB54-E6F506C3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FD60F-75E1-420A-B7F1-F5DFE60D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FD740-546E-4201-9AD0-13B18CBF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E78E7-FB4A-4E35-9394-EA3441C5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E8B53-DBB0-47A9-92B1-0F6AFA37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A05E3-A809-4172-80DB-35DBCEC0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65013-20B7-46B5-85F5-80DAA657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9C2CF-19BF-4423-BFE6-4214384B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E7CD-F4A7-4852-A3B0-D6B8DFA7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3ED3D-B5EC-4FE9-93C0-E7457FC7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4FA92-BF31-4EB2-A95A-B58C6247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C527C-EF4D-4F1D-A067-F26D6130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590F4-DC9E-4DCC-B868-A9AE4982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8781C-5369-49EB-868B-D64A0699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21842-3274-44DD-A51B-1A6DC036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FD64C-EF3B-4A15-BE91-3629BB96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74189-28EA-4A30-B151-CEF6621D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BB896-7F8B-40C8-BC6D-78F5A535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4536D-AA06-4EE0-B8AE-B80FEAA4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36C-A41F-4B32-9BEC-27782F11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458D3-1631-482F-A6E1-82F7ABF3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5E9BD-C43C-469F-BD3D-34D0A793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1A34E-377F-4611-AD67-153D39D2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6615E-5C5C-4DE9-817D-67BFD875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62437-218F-454A-8E3D-E0C61D64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DE801-F400-4CD0-BFDD-4C173F4B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1BE05-CE77-4E1D-BE92-509FE18B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65841-A4D7-4338-B7BA-F6834EFD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B76CB-DDB4-42E8-B8FE-6FC05CC3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EC4EA-85A2-4C44-B893-EC0AA9ED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CF44-5A10-490E-83FB-B5814A22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E81ED-08BC-438A-ABD7-F0D7964E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E00C1-136B-458B-99B8-E9314F6E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84A45-DD52-4F2E-B122-C38A7444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7BC3C-7B37-4209-A1E2-99C014A3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D511D-1E62-4CC6-A58E-9C2C83DD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17115-4EE4-4EDF-BEB7-FAE3F62F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13C89-6883-4995-9847-E87A8ECC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6C085-D207-4CE5-96C0-7FF83E49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E70E7-4B4D-428D-98D8-4859BEB6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39F02-E327-4B9D-B956-5A008A03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1603-FD86-45C0-9192-86F4D67A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F67BD-22DC-41D5-9DA0-02D102C8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08B2D-D8A7-489B-9A55-D64CDA0D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F6F3A-ABFB-4B10-BC14-3CE2A1BD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85DBF-79E5-48E2-8C4A-090441DF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DFB88-1DF0-49E8-8022-41222526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EBC03-2F9A-46AB-B13D-4B99B98F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0A299-1677-4BAD-8EE5-D3CBE884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AEC33-8DD8-420E-BF96-6E9A7FC3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C42A8-8BBD-4137-8B05-7F420261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7D534-A074-4527-B8FD-30946D3B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2656-A968-4FE0-BB91-64A96E05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FB614-E6CD-4083-8C90-0B1656CB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49D67-5F52-4AE2-B6C3-DEBBF976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E1227-7AAC-4E31-B735-F2CCB683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C6A6E-6862-4773-924C-F0DE7030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C0714-9F33-4747-8849-111E8A62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0C09C-BBDB-4792-93A8-D0175162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2EB66-4748-4BBD-8A2A-61DDAB8A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B757B-2924-4E38-9AC4-18A8372D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ECA15-2CCC-41C4-A416-E0A63C2D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BCA22-1912-4043-A55B-D8380B82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D030-3ABE-4AF4-84FE-EE51BDFBA64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0DA8-8409-4E62-8A15-ABA60DD6C4B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740D-688A-44BC-B3B7-B09E7AEA93B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86F8-F639-447D-AB1C-649A4A2960B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1EA1-E096-4BC5-BC60-1AD4F70C444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2F74-4906-43A0-8459-C3436115ACC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CE4A-26F3-4EBC-BCCC-1CF9453B884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980A-4512-4970-8046-A34E50EEDE6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F9F4-4FBE-4A61-932D-86757F00E00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515B-6A94-40A3-A5F7-354615AF3EE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DABE-30B0-4FD1-A6A6-D80CB4F9239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62C4-A4DE-4E70-9011-D19A5A467FF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58 Aká to krás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ká to láska,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torá pripravil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íbytky slávy pre ná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nebesia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o žiadna myseľ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ľudská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vysnil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kde bô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u nie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 nevládne u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strach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Len kráčaj napred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Božej sile stál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istote vier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hľaď vždy na svoj cieľ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vyplní náš Pán sľuby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dokonale,</a:t>
            </a:r>
            <a:br>
              <a:rPr sz="47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láskavý Priat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erný Spasit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ká to krá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o skončenom boj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bavený útrap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ojsť do slávy br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pustiť hriešnu z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náš Pán spoj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í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zné šíky verných z všetkých strán!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dôjdeme raz z mil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o cieľ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otrieme z čel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ot a cesty pra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pozdravíme svojho Spasiteľ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slavnou pie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ď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ky na perá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ká to sl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ám keď nebies Vládc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raz postaví si po pravici ná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povie: Poďt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dome môjho Otc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krá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vstvo slávy 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káva v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ie oči svitom lásk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žiariť budú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o pre svet v žiali slzy ronili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uzrieme stopy tých r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o nás súd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 trestu 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ej smrti zbavil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7:20:31Z</dcterms:modified>
  <cp:revision>23</cp:revision>
  <dc:subject/>
  <dc:title>Je veľký náš Pán, on slávy je Kráľ Nech do všetkých strán  spev vrúcnych znie chvál.</dc:title>
</cp:coreProperties>
</file>